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3D4CD17-56B7-4EB6-8561-489FD36F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5572D3-960A-4028-B909-67A7FE74AD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A6D449-54C1-4266-BCC9-E9474817F9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D44C486-D352-4649-A814-7B2388BA86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001809-35BF-4FFA-90F7-A822904703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1D61FCB-1DC8-43BD-A841-1AB46B3B50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B5A16A-737C-46E0-9C3F-7A50E9F3A5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F1FB08-7303-4BE2-9AA3-84AECDBA8E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6C3650-EFBE-4B9E-98A1-B01619984D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15C230C-8304-4449-9ECD-021B60747F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AFD76A-1C5D-4F7C-B9F2-595797449E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EE6995E-2A3E-49BE-B640-84B0E3F7FF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70BC3E5-51EA-4C91-8F92-97085D05F6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9A35060-0EE0-4800-A9EA-72B3B76C6A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B549F50-ABED-4C5A-9C51-D8D846AC00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1D1A5D-C0FA-40C3-BC37-3F977B0A2D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6DCB1D-A086-4DA7-87AC-A1A1F76405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E6C4C7-96DB-46D1-914E-61B4223BC0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907161-6CC5-4895-98EB-015A9F6135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3E69967-7602-4D50-B14C-0BCF6682DB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CBB9EE-8F81-4310-B4ED-6E856568BF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D3AF787-2ED9-4394-BEA1-A1845E0AF3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FDC3633-661D-404E-B6B6-05F552500B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CC8FB6-F109-4BED-B3C9-A7DCDFA1AB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3116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3200" y="15235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3116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3200" y="4030920"/>
            <a:ext cx="2687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334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40309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523520"/>
            <a:ext cx="4072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834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32448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Hands: An Introduction to the Crime of Intimate and Family Violence, 4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ssel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. • 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3082-C8B5-43C0-ACC1-51D4055F5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"/>
          <p:cNvPicPr/>
          <p:nvPr/>
        </p:nvPicPr>
        <p:blipFill>
          <a:blip r:embed="rId3"/>
          <a:stretch/>
        </p:blipFill>
        <p:spPr>
          <a:xfrm>
            <a:off x="4038480" y="6248520"/>
            <a:ext cx="1143000" cy="43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Seven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imate Partner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34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olence Against Women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are the most frequent victims of intimate partne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oman is victimized by an intimate partner every 1.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is typical of any woman, but the danger for her is in her own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comes from every walk of life, age, race, ethnicity, and social cla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omen  and Violence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American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Indian and Alaska Native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an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casian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panic/Latina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Military and Violence against Wo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1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the civilian spouse of active duty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62% of abusers are on active military du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18,000 incidents reported to the Department of Defense’s family advocacy program i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imate violence handled on two separate track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litary justic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mily advocacy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Violence Against Me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are also vict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gma of being a male and the fear of not being believed are the reasons less likely to report and seek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an is victimized  every 6.7 minutes by an intimate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extent of violence toward men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n do experience significant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Male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factors leading to husban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communication between sp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ggle over control and power in the relationship or perception of lesse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band abuse is evidenced as a form of social dis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injure partner is made with the knowledge that the apprehension or social censure is sl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cialization factors that make it difficult for men to achieve recove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culine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 inti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ual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nd control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lsive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ories of Intimate Partner Violenc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 of  Violence Theo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nore Walk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attered Wo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sion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I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ute Bat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I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Honeymo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eminist Sociopolitical Theory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ate partner violence considered as endemic to cultures influence by a patriarchal soci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s to the social system that recognizes the complete dominance of men over w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iarchy is recognized as the most common and enduring soci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dividual-Based The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ribe family violence to psychological problems such as personality disorders, the batterer’s childhood experiences, or biological dis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s in recent years have refuted thesis, less than 10 percent of abusive parents were found to be emotionally maladju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 factor theo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ought to determine the cause of abuse and negl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ocial-Psychological Model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rated theory that brings together three approaches to crime cau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al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earned through direct instruction, modeling, and reinforc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qual power rel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busive behavior will be tolerated, born through feminist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rsonal choice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cts out the violence instead of using alternative methods of conflict re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ate partner violence: also called domestic violence, is violence committed by a current or former spouse, opposite-sex cohabiting partner, same-sex cohabiting partner, date, or boyfriend or girl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ate partner violence and abuse takes many forms and it is often repea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Offens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tal Rape: a prevalent form of sexual abuse – unwanted intercourse, or penetration obtained by force, threat of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tates did not consider a crime till 197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3, a crime in all 50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 every seven mar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ment prescribed is often lighter than for other types of r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e Rap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unwanted intercourse, oral sex, anal sex, or other sexual contact through the use of force or threat of force by casual or intimating dating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term used to describe, not a specific crime called “date rap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experience among young adult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 five women have experience forced sex in their life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ing Violence Victim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4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individuals are at risk for this form of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that occurs in a dating or courtship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sexual assaults, rape, physical assault and battery, and verbal and emotional ab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couples more likely to be violent than married cou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rates found among university 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nge of 1.5 to 20 percent of students reported inflicting injury on part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actors Contributing to Assaulting Partners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120" y="1523520"/>
            <a:ext cx="409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e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ocial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 with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hi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57480" y="1523520"/>
            <a:ext cx="409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ttributions about the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l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ual abuse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fu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y Do Intimate Partner Violence Victims Stay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ct is women do leave their ab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, women leave and return to an abusive partner five times before permanently leaving th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taying are co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ed women experience shame, embarrassment, isol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reasons why a victim may not le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r, lack of support, difficulties of single parenting, reduced financial circumstances, lacking a safety plan, isolation, rationalization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ifferent Forms of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8288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abuse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hysical Abuse: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142640"/>
            <a:ext cx="834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s may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ch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v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pp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weapon against a partn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i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ling hair, and restraining part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xual Abus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218960"/>
            <a:ext cx="834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violence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ing a partner to perform sexual ac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ing the partner that she asked for the abuse, (in sadomasochism)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motional and Psychological abus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abuse such as calling of nam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iz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ing mind gam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iliating the partner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ing internalized homopho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conomic Abus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control creates financial dependency.  It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the partner from getting a jo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partner fired from a jo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the partner ask for mone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the money that he or she has 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Battered Women’s Movemen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21896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victories accomplish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im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ened victim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ention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on and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erer’s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wareness of violence against lesbian and gay partners and 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ff0000"/>
              </a:buClr>
              <a:buSzPct val="55000"/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in dating relation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4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ealth and Safety Issu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jury and Tra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Lif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line and she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9:58:21Z</dcterms:created>
  <dc:creator>MDC</dc:creator>
  <dc:description/>
  <dc:language>en-US</dc:language>
  <cp:lastModifiedBy>Michelle Churma</cp:lastModifiedBy>
  <dcterms:modified xsi:type="dcterms:W3CDTF">2009-08-04T15:12:36Z</dcterms:modified>
  <cp:revision>6</cp:revision>
  <dc:subject/>
  <dc:title>Slide 1</dc:title>
</cp:coreProperties>
</file>